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  <p:sldId id="275" r:id="rId69"/>
    <p:sldId id="276" r:id="rId70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slide" Target="slides/slide20.xml"/><Relationship Id="rId70" Type="http://schemas.openxmlformats.org/officeDocument/2006/relationships/slide" Target="slides/slide21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2B1E-33A6-4633-9239-300FD858D0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95F1A-1151-45BD-81AB-FC213CCF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933F-E591-4A1B-9BC8-231466ED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73DE2-E5EE-4D15-B5CA-992D4964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96D5-DE9B-4AFB-BA97-67894B9B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78129-545B-4355-B470-FBC81294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2D7E-5817-49BC-A44B-97F0F9B4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15A927-2170-43AF-A58C-F849C8580A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8F330B-3E8F-41D7-B353-308DAF82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EEDD63-EF13-4CAE-96A0-854DF9AF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DB2C16-0ABB-449A-9F79-03B6D68D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6F4E9E-7C42-48E0-B40B-B699088C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BD4977-297D-4939-BB69-CCE4A1C6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0DA679-2A51-430B-B158-F7C8389B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2F8E-2662-4A58-A35C-61E69593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D142B7-2E03-49BD-BC97-72323184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FF3A7B-D763-4AF1-B373-D08CB766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2553BC-4C94-4A4D-81E4-9C571F79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590506-BCFA-452D-A967-8CAB56CD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2288BD-5686-4AB1-84D7-9BEFF5AF8B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641F5-38C7-48BA-B438-334C921C0A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E0D36-5731-4F99-BCD2-B3A85F5B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5107F-83FF-42FA-AEB2-0160AAB1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763C6-4CF4-42BB-8A28-7E296DF5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5C19-9A1F-4156-85EF-BD2BB229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515EA-4B41-43FE-824C-83E3E407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7863A-3A14-45F1-83D2-33129F11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69678-CA6D-4696-B81F-DBCF10A1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2EC24-19A2-4C17-824E-1CE89076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6A227-63F0-4092-8486-856BD3F9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BE7B-8207-4C49-85C6-D5E34EDA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595A-774C-4873-B312-2DE37014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EC1FB-8925-4072-9D15-7BD0AED3DA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1DE390-8ED8-4940-9DFF-3ABEEBF35B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147607-E855-4992-9780-BF129F7E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911CF0-3BC9-4EC8-97FF-23366804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EE75D-B357-4869-961F-F5009832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6BFC06-D326-4C39-BBF2-17047599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982A21-6B34-46FB-9D1F-42B40E65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7CFCD-03FF-4F4B-AC2B-DE6E971A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D13114-2B1A-4D72-9FCC-663723CA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396B34-3241-45C5-8A53-CA425B5D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B51EC8-C4DB-4025-A315-BC7A88FE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BF93CB-7706-497B-8611-44069239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8FB00E-72FA-4E6E-8DBB-859D476F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48695A-A464-4878-BB0A-C319249F0B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39091B-27BB-4715-8DA5-10302098FD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1CDD2-404E-4912-BF0C-DE435068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22E535-360D-4DA6-B61E-85FFCF43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26E70E-356F-4F4F-B2B5-484110FB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22DC77-C191-4B49-BE66-7500151C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D87FD3-044B-4CA4-A5BC-9FFAD0CC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0D8168-8A2E-4E14-82DC-64828C11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691648-0CEA-499E-A1C8-FFC74402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A39E8B-6254-4EC6-9844-25FBCE4E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64F7BF-0EA8-4713-A31B-61542EE7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D1A3CB-2279-49CC-A13B-51D88E9C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1EDE8B-D311-422A-BF72-8D011D72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7334-38E6-4A7D-903D-7341E74D74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E2BAB1-2ACC-4DAE-A83C-8D18B702BC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A080C-602C-4A70-B487-F66DAF5089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3C459-C4EE-417A-A917-8E2E9496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138E8-B781-4F77-BFA9-6F760F9E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8DCD5-D3ED-4CF4-A296-E407313D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6C0B8-66DF-4EDB-89DB-188D15A5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7309E-7C93-432F-8FC3-FAEE3AA9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E5908-1DB2-4F92-A2C8-A9633D61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3BEA6-1F3F-477F-A031-71C8F190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4BF35-9B1D-4825-B812-05259820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C717C-5824-4C41-98DF-90BD9673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913C1-96A0-4FF4-A952-CCE0DB5E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578D8-6E69-4BD2-81FE-70883264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3A49D-2CC0-4C7A-9276-1D598048EA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CA265-C0A1-498D-8A71-A8C5B47F0D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7AB6F-FCCD-4CBD-BE65-C68DB125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39B8DD-FBFC-442F-823D-B53E7ABA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33B36-3288-47EA-BA5E-0A96CE98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80C1E-FDCC-41FF-A0E3-252E3DEA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662A0-51A8-4885-941D-61DE336A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2E904-B84F-4507-8592-422CC062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C60C8-4531-4095-980A-76BD6DFC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AA8A3-264B-4010-A3AA-DC764513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76D447-47CE-46BA-9214-2789275B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DD3A8-9EFC-4D8C-B598-74AA9693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2FE35-5A55-4A92-9A5A-041A2178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451BBF-3D1B-4652-AC9A-3D0EA33F96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4FBBE8-7B50-4EFB-ABDE-A4D4DE46D0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793325-9563-4FC8-B8A8-4C6B6094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3E9A10-E9E8-48A9-A1FB-A3333257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AE7126-B029-43E8-872A-A1F3CA09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83FF3B-CB3E-47E1-AC34-EEBA04E5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C3FEB-1CAF-486F-9540-4AE61A84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6CE8B9-45A6-4352-A24A-EA886D80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60DD9E-A5B7-42BC-8D51-2E66654D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22566F-10A2-4184-AB9F-D3CC4AC4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2BC8B4-0BB9-4D3C-90A6-9D6F2C45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9C00FD-7092-4C53-975F-D089ECCC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E32D08-9ED3-4121-85F4-AFEBD8EF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B7F338-2152-421F-99EF-1375A008D6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E98A0-126A-45C6-9FD2-14FBC0E023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98E06-439B-4374-A594-206C4A83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DBA27-617F-4D94-9955-FC937FB9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56E1C-8097-4AF9-8057-3DB78723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F4FF3-EA24-48CF-9E4A-91A33EFE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447FA-B4EB-4A52-ABD4-CAC76D9F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9146A-AC5A-47EB-9F17-2DAEEA58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D7469-CB38-4DC5-A6D1-CEDE2184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8BF21-6887-4DAF-A142-9800A8E8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1D2B8-4955-4417-992E-909975DC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05FD3-0A26-447C-A164-DEA0E806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2EED7-B9E8-4F4D-8013-0FD84159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D65E4-7B63-4629-A8F1-C3589969B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551409-86BA-4DD2-BECC-6BD99C32C3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E4C14-D96E-4F88-A729-D628A17B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0019DB-8A06-4CC0-90EE-B86770F0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CD9D14-9F21-4080-B621-8B8AFD36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A85BE9-3C86-4B21-B6A4-072D32C9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DC95B6-7CA2-4E19-8065-8E4F5FE4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9A9055-D9C5-47AD-AB29-929869DA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7BEF98-078B-4118-9ADB-0529C596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320BD8-FB39-4810-9713-883D84FC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8059AF-367B-41C4-AA9B-88098207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AAD83B-0B15-4B18-B46C-2D076CC4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1EB72F-BADD-4758-808A-E6807CD6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65E66-6369-4D1E-88F2-0CB54C94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E5E9D0-C776-4689-BFEB-C05BD3EFD0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B25B0-D5A3-4BE4-B89C-394691FDBB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29FBD-88B9-47D7-8547-1B900034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72371-B62A-4734-A580-0A779FBE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DBB07F-4634-43D0-83BA-07A717FB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9D29F-7A8B-4FCE-A9DE-0CFB654A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5B4E1-5CD3-47DA-BDC7-506103C8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D4962-F6E2-4B6D-8A39-F5EFF7C0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4455F-5CB4-42DF-A49D-26233C11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94B46-1D50-431F-BE96-87B3BB02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AD49C-D11D-48F3-9715-D2D828E8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C847B-4D33-42E0-A4A2-27BE2D5E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CEC7F-68C5-4EF1-A954-4888909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749B3-2039-4278-A992-84A23C28E3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A349C-9058-405E-B877-E44C00313F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F1F28-B85D-42DA-8852-242AE8DB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A2ACD-5FAE-4E63-8250-6E7BD2A7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C800B-7837-4BEA-A249-74F9E4BC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BBDD7-3A5B-4676-BC59-9EF1D8CC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2882A-6970-4CDC-86E7-E919C863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3FC08-BC0B-4618-868E-0D4EE8B6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8FF8F-C2DB-4992-AB25-BB463C3A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0AB58-C9EE-4537-80E6-CA969018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604CE-377A-48EA-89B3-CB27C0F2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0F468-6174-4605-B38B-7951D9C6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BAF9A-87A5-4573-8E8B-892C917B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D98BB-9B8F-4BB5-A0B5-D6B1C2A1D5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51945-8432-4A97-847B-DC660F05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A9366-E0A0-4CD3-B471-C359C2E2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715AD-097B-43A6-A247-81BC58CC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4064D-D693-4578-A15C-916B6131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F7AC1-0CCD-4CD7-A486-24C59742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18A6D-FD66-4EB8-95E7-5862E44E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8FEF2-84DD-4E38-AC47-02D14649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71137-5105-4EAE-A183-95A033DB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7B5FA-52ED-47F1-BE88-6A1E0223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A1D6F-EE82-4F69-BDA6-B8E83F00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A4CEF-6E8E-428F-AB04-4EF0857F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4244D-8720-4676-8DB6-EA4F265C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FAE5D-D31B-4BD0-8E40-2635C853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2BB4F-E1A2-4ED8-8CAD-CD9CC6AC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F048F-B474-48D6-8779-1FD7F2FF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A9699-713F-4F3A-92E9-A0964AEC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EDF28-CB0B-47F9-906A-7C779443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17AD9-A357-47F4-BC31-BA59A628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4D022-3868-4E67-B76C-EB8647F2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FD7CE-684F-4DAE-B4E6-B295FC1A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4B53A-C1D7-44DB-A7C1-DA92C1B2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13E79-5898-4C95-BB42-02883416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A8A49-B00F-4960-89D6-FA95BE44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BCBE4-034D-4AB8-8ECB-F4B908AD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CAD7B-5CEB-4DEA-9BA0-311CAF13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ECFD0-FE2F-4433-92C4-CCA658EB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B9816-F915-4B35-9EAE-0CBB4065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94909-076B-497D-8713-9236B84D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15030-E141-45EE-8A3B-16653D29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6371A-7AFA-4523-9CFA-7C9F955A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6DA2A-6FBB-447E-91BF-0E678329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900B7-5DA2-40A0-AC9E-580230A2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B158A-DCF9-45F7-8903-B5D12C2B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0A999-1C73-4401-94F7-6C3B05CB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AAA03-AF94-4796-9C9A-661D9C2E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E222C-CEB6-4A49-9828-B574ECB2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1D6A0-F74D-4111-90E5-1E319ECD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66E2B-14AF-49A8-A285-7B2F084D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95636-DF66-44D6-8FDD-1F4B32B8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62683-A696-4BAD-9914-84D3C427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C260A-F2E8-4283-98CF-C617706A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734BA-7D0D-428E-99FB-6A10E68A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F3C87-433D-4DCC-9631-FB069E52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C3BF6-B597-4E95-9001-1B94C53B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4F2AC-E615-4A24-BFA2-6356A649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66073-F821-4CCF-A06F-09DFB05D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DD2E1-7898-43D5-A5ED-12D1C7B9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727EE-AF09-4159-90E5-BB9F1C5F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974DE-7603-4B7B-9F0F-8C0B03B2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8EE37-328E-4DCC-995E-25808D0B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0887F-B14B-461C-B2D2-EC6E32B3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E53E5-5AC9-43F9-B1DB-C341D00E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1093B-3CD6-4BB1-86C7-5983EFC3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9F25F-3900-407F-A9DA-B84BB9BF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2DF0D-3F8B-44C7-B51E-D3F8224F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1CBF9-8408-4DDD-A2B0-B619ABCC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059292-D7DB-4254-9914-AAF6FA12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17F29-B9A0-4A20-9E75-9B172895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63B20-235F-482E-A425-11B459D1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065D0-4181-4EA8-BEBD-6EA5CAD6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6C3975-8EA3-431F-A143-FBDF5185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12A2E-62E9-4C25-8D39-4E2343C2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FCE4D-A87C-481C-B88C-EA9A5554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66DDB-0294-44E3-8660-2BC29E39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0EC4D-4778-4C2B-BDB2-D57B76DD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F446F-1717-47EC-83D9-ED03FB36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F984E-8FAD-4E4A-8133-94E4B140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6FD0C-0A0A-43CE-9C47-4C33833B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E46CD4-7AD0-4136-98B1-AD295B16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75E8F-5A4E-4E6F-9007-7192181B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85CF8F-F5C1-4012-8B62-B1BB6851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B9945-73CC-48DE-B0BF-CD92475A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D0AA65-8C84-442F-A44D-2D0FCF8F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4D597-271C-4A6B-BD0C-58373679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371221-9D20-49D5-835E-8510BBD3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C4AA9F-1F5B-4656-A034-3A7C2BC1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B4492A-C5DB-4A5E-9AD2-09CD97E3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7588C7-247F-4D37-B1B9-6303494D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74B522-B42F-4856-B663-6C04C834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7EB4EF-1ED3-45C3-87EE-5BAF1BC3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2C637-2625-4C53-9AEB-5AB6F806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2B1C4-F619-44F3-B3CA-71551D92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1E8BF2-D1D1-43FE-954A-4E18E71F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A51351-BAD1-4E22-9DC1-43B6EBA1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47E14-A570-4F3B-B240-2E0BAA9D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B1EE02-6BA5-4304-9350-D1B426A5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C58EC5-5D08-4D62-90AE-DEBE4208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D967AA-F452-47A4-96D3-58C83735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EF7932-5D00-4B17-8C01-9FB28688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F3E8AA-3F9B-44E4-ABE8-3D10463E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19F21B-66C3-4B9D-BBFB-0FE0B36A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15A60-F0C4-409E-8060-9B2C167F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BDDB52-FEA9-4869-AB1C-D86A0DD3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FD13A7-83FA-4195-BBE8-6DA40359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07D605-F6C8-4C22-96E2-24AE04C6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0C1B3F-1758-400E-B1AA-2F4C8FF6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528A2-C15F-426B-8629-BE0C69EC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BD2C54-E8DE-4A10-AD73-770AF00C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66B95E-DDAD-4C10-B21C-7B97F4BA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7A1976-965C-4B7F-AB53-08FAC3C5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2869F8-A663-4565-AF40-5949056A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0CA42-1FBA-40CC-9E93-56366223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39F846-51AB-47AE-87DB-496F3C46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5A4AC8-C1C2-4710-B714-9D753EFA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FC0CD2-768C-4213-AEF4-41C1D6C4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0615D8-6ABA-4CBD-A62A-8F387708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73EC1-ECFB-4046-BEF5-92C5D32D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A4CB1B-165C-4F89-A11C-2BE1422F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AF56D-76F5-41A4-805C-3156A961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1680C2-0112-40D8-ADC6-D3020492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91C6F9-11E3-4CE0-B45F-F6902D98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67380-E734-4ED2-BC17-D705415B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0F14A0-6F17-449A-8D14-0393687C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F76C99-1A61-45C8-89F1-07D4B72F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11A5AD-C773-4A08-976A-62732DCD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E8D629-BB16-4245-A91D-BE360B74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F8A0EC-975F-4416-9D1D-DC2DD921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BC9FBC-63E8-464A-8C5C-F7E1B606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D0CA33-C7BF-4A16-A676-0D8444B5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E37BD-78EC-4E5A-96E4-1A2CF483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C138D8-9509-4379-A5C1-A89BF7B3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AF0C09-1CEB-4C0B-ADAC-9C69A821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1B2A34-1082-4A29-A688-8C89E1B8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FBC0F-6B30-4AD8-8762-F3B50F73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EBD4E3-0BDF-49BA-B729-4B876C51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7C3C7B-B950-4626-9629-71D355DF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6D3256-3D91-4C30-B7D2-3E6A143E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9F385B-3C59-45EE-A1CA-9CA4B72D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7C1CDA-27C2-4809-8957-18726DD8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CEF1F4-C7BC-4903-9420-E9D2CB0A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4E99EF-04F5-4CEF-B3B8-167D73D3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277A1F-7236-4B85-836B-76A5601F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EFD573-3A6C-4B77-8512-8481E39B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7EEB7D-F1A1-4005-8BDD-DCFBB59A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60EB5A-52FD-4C63-BADD-1AD4ACDF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4008BA-F444-4EA9-88EF-E3B0EC15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../../../&#30446;&#24405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00801">
            <a:hlinkClick r:id="rId3"/>
          </p:cNvPr>
          <p:cNvSpPr/>
          <p:nvPr/>
        </p:nvSpPr>
        <p:spPr>
          <a:xfrm>
            <a:off x="1660680" y="208080"/>
            <a:ext cx="1049040" cy="3222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1101825">
            <a:hlinkClick r:id="" action="ppaction://hlinkshowjump?jump=firstslide"/>
          </p:cNvPr>
          <p:cNvSpPr/>
          <p:nvPr/>
        </p:nvSpPr>
        <p:spPr>
          <a:xfrm>
            <a:off x="1684440" y="230040"/>
            <a:ext cx="1030320" cy="28584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8" name="图片 1101851" descr="探究"/>
          <p:cNvPicPr/>
          <p:nvPr/>
        </p:nvPicPr>
        <p:blipFill>
          <a:blip r:embed="rId3"/>
          <a:srcRect l="0" t="0" r="27946" b="3073"/>
          <a:stretch/>
        </p:blipFill>
        <p:spPr>
          <a:xfrm>
            <a:off x="3171960" y="230040"/>
            <a:ext cx="847440" cy="295560"/>
          </a:xfrm>
          <a:prstGeom prst="rect">
            <a:avLst/>
          </a:prstGeom>
          <a:ln w="0">
            <a:noFill/>
          </a:ln>
        </p:spPr>
      </p:pic>
      <p:pic>
        <p:nvPicPr>
          <p:cNvPr id="39" name="图片 1101852" descr="难题"/>
          <p:cNvPicPr/>
          <p:nvPr/>
        </p:nvPicPr>
        <p:blipFill>
          <a:blip r:embed="rId4"/>
          <a:srcRect l="0" t="0" r="27486" b="6265"/>
          <a:stretch/>
        </p:blipFill>
        <p:spPr>
          <a:xfrm>
            <a:off x="4238640" y="219240"/>
            <a:ext cx="866880" cy="2854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1101853" descr="拓展"/>
          <p:cNvPicPr/>
          <p:nvPr/>
        </p:nvPicPr>
        <p:blipFill>
          <a:blip r:embed="rId5"/>
          <a:srcRect l="0" t="0" r="23756" b="0"/>
          <a:stretch/>
        </p:blipFill>
        <p:spPr>
          <a:xfrm>
            <a:off x="5326200" y="217440"/>
            <a:ext cx="855360" cy="304920"/>
          </a:xfrm>
          <a:prstGeom prst="rect">
            <a:avLst/>
          </a:prstGeom>
          <a:ln w="0">
            <a:noFill/>
          </a:ln>
        </p:spPr>
      </p:pic>
      <p:pic>
        <p:nvPicPr>
          <p:cNvPr id="41" name="图片 1101854" descr="巩固"/>
          <p:cNvPicPr/>
          <p:nvPr/>
        </p:nvPicPr>
        <p:blipFill>
          <a:blip r:embed="rId6"/>
          <a:srcRect l="0" t="0" r="7746" b="3664"/>
          <a:stretch/>
        </p:blipFill>
        <p:spPr>
          <a:xfrm>
            <a:off x="6402240" y="219240"/>
            <a:ext cx="849600" cy="293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01855" descr="总结"/>
          <p:cNvPicPr/>
          <p:nvPr/>
        </p:nvPicPr>
        <p:blipFill>
          <a:blip r:embed="rId7"/>
          <a:stretch/>
        </p:blipFill>
        <p:spPr>
          <a:xfrm>
            <a:off x="7472520" y="219240"/>
            <a:ext cx="92052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sldNum" idx="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492D-4270-4EF3-89A3-59E829CEC8C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dt" idx="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sldNum" idx="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0FF1-F873-4FBA-A464-A0558655157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 type="dt" idx="1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 type="sldNum" idx="1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DC9A-8C16-4D3C-833C-254FF01E5EB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80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81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2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3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4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5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DFC3-9E89-437D-8D32-9433B11F24A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1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sldNum" idx="1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9CB9-6702-4294-BB98-00018595B5F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1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sldNum" idx="1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5159-DCD0-4110-95A3-685353EC885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1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sldNum" idx="1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0966-5C10-4949-BB42-B2B213CE419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dt" idx="1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sldNum" idx="1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22B5-DB64-49EF-ACA9-D47FAED189B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2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sldNum" idx="2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0ECB-3BD9-4F93-948C-CFAA7363073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dt" idx="2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2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A921-B2D1-4D58-A1AE-38D22441550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2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sldNum" idx="2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A6D9-9A5E-48C6-95C2-23ED5B1E8A9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 type="dt" idx="2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 type="sldNum" idx="2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9AD7-930F-42ED-B503-43AF2A6ACCF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2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29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30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2102-AF6E-465E-AF81-FF814B7F2CA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dt" idx="3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ftr" idx="32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AD1C-082F-439C-B1E5-E76A3D6C1F2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128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9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0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1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2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4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F7C2-5382-41A2-9BE3-1CF1EDE3EF5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 type="dt" idx="3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 type="ftr" idx="35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AC9D-50A9-491E-A1F9-F766AB6780E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37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38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3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2D51-8C91-4A09-B0AD-279BF8DDAAB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 type="dt" idx="4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 type="ftr" idx="41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 type="sldNum" idx="4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8F4C-0BC5-4E5F-8EDD-8AE7C675507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 type="dt" idx="4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 type="ftr" idx="44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 type="sldNum" idx="4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BF74-5B30-4A5B-81CE-EE1BDC700D4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4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47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48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9CD1-C34C-4D01-A2BC-E3922C9F43F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 type="dt" idx="49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 type="ftr" idx="50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 type="sldNum" idx="5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F476-DDCC-4186-AAB8-CA94C406CD6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 type="dt" idx="5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 type="ftr" idx="53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 type="sldNum" idx="54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4694-6866-4BA0-A7D1-EAE1A5E5686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 type="dt" idx="55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 type="ftr" idx="56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 type="sldNum" idx="5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D663-CC0E-4A92-A784-3BC14A0E0CF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 type="dt" idx="5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 type="ftr" idx="59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 type="sldNum" idx="60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D3C3-07B2-4536-8C06-57F31B60895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7" name="图片 368689" descr=""/>
          <p:cNvPicPr/>
          <p:nvPr/>
        </p:nvPicPr>
        <p:blipFill>
          <a:blip r:embed="rId1"/>
          <a:srcRect l="43132" t="0" r="22970" b="0"/>
          <a:stretch/>
        </p:blipFill>
        <p:spPr>
          <a:xfrm>
            <a:off x="4110120" y="2455920"/>
            <a:ext cx="2282760" cy="7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7" name="图片 1238033" descr="73"/>
          <p:cNvPicPr/>
          <p:nvPr/>
        </p:nvPicPr>
        <p:blipFill>
          <a:blip r:embed="rId1"/>
          <a:srcRect l="0" t="13343" r="11279" b="0"/>
          <a:stretch/>
        </p:blipFill>
        <p:spPr>
          <a:xfrm>
            <a:off x="2986200" y="771480"/>
            <a:ext cx="2871720" cy="671400"/>
          </a:xfrm>
          <a:prstGeom prst="rect">
            <a:avLst/>
          </a:prstGeom>
          <a:ln w="0">
            <a:noFill/>
          </a:ln>
        </p:spPr>
      </p:pic>
      <p:pic>
        <p:nvPicPr>
          <p:cNvPr id="1888" name="图片 1238034" descr=""/>
          <p:cNvPicPr/>
          <p:nvPr/>
        </p:nvPicPr>
        <p:blipFill>
          <a:blip r:embed="rId2"/>
          <a:stretch/>
        </p:blipFill>
        <p:spPr>
          <a:xfrm>
            <a:off x="0" y="1758960"/>
            <a:ext cx="8837640" cy="1457280"/>
          </a:xfrm>
          <a:prstGeom prst="rect">
            <a:avLst/>
          </a:prstGeom>
          <a:ln w="0">
            <a:noFill/>
          </a:ln>
        </p:spPr>
      </p:pic>
      <p:pic>
        <p:nvPicPr>
          <p:cNvPr id="1889" name="图片 1238035" descr=""/>
          <p:cNvPicPr/>
          <p:nvPr/>
        </p:nvPicPr>
        <p:blipFill>
          <a:blip r:embed="rId3"/>
          <a:stretch/>
        </p:blipFill>
        <p:spPr>
          <a:xfrm>
            <a:off x="0" y="3373560"/>
            <a:ext cx="541008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0" name="图片 1248261" descr=""/>
          <p:cNvPicPr/>
          <p:nvPr/>
        </p:nvPicPr>
        <p:blipFill>
          <a:blip r:embed="rId1"/>
          <a:stretch/>
        </p:blipFill>
        <p:spPr>
          <a:xfrm>
            <a:off x="236520" y="1627200"/>
            <a:ext cx="8907480" cy="1762200"/>
          </a:xfrm>
          <a:prstGeom prst="rect">
            <a:avLst/>
          </a:prstGeom>
          <a:ln w="0">
            <a:noFill/>
          </a:ln>
        </p:spPr>
      </p:pic>
      <p:pic>
        <p:nvPicPr>
          <p:cNvPr id="1891" name="图片 1248262" descr=""/>
          <p:cNvPicPr/>
          <p:nvPr/>
        </p:nvPicPr>
        <p:blipFill>
          <a:blip r:embed="rId2"/>
          <a:stretch/>
        </p:blipFill>
        <p:spPr>
          <a:xfrm>
            <a:off x="339840" y="3413160"/>
            <a:ext cx="4152960" cy="6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2" name="图片 1244164" descr=""/>
          <p:cNvPicPr/>
          <p:nvPr/>
        </p:nvPicPr>
        <p:blipFill>
          <a:blip r:embed="rId1"/>
          <a:stretch/>
        </p:blipFill>
        <p:spPr>
          <a:xfrm>
            <a:off x="633240" y="1303200"/>
            <a:ext cx="6850080" cy="1486080"/>
          </a:xfrm>
          <a:prstGeom prst="rect">
            <a:avLst/>
          </a:prstGeom>
          <a:ln w="0">
            <a:noFill/>
          </a:ln>
        </p:spPr>
      </p:pic>
      <p:sp>
        <p:nvSpPr>
          <p:cNvPr id="1893" name="矩形 1244165"/>
          <p:cNvSpPr/>
          <p:nvPr/>
        </p:nvSpPr>
        <p:spPr>
          <a:xfrm>
            <a:off x="811080" y="2041560"/>
            <a:ext cx="4086360" cy="244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4" name="图片 1262593" descr=""/>
          <p:cNvPicPr/>
          <p:nvPr/>
        </p:nvPicPr>
        <p:blipFill>
          <a:blip r:embed="rId1"/>
          <a:stretch/>
        </p:blipFill>
        <p:spPr>
          <a:xfrm>
            <a:off x="0" y="1268280"/>
            <a:ext cx="8783640" cy="1409760"/>
          </a:xfrm>
          <a:prstGeom prst="rect">
            <a:avLst/>
          </a:prstGeom>
          <a:ln w="0">
            <a:noFill/>
          </a:ln>
        </p:spPr>
      </p:pic>
      <p:sp>
        <p:nvSpPr>
          <p:cNvPr id="1895" name="矩形 1262594"/>
          <p:cNvSpPr/>
          <p:nvPr/>
        </p:nvSpPr>
        <p:spPr>
          <a:xfrm>
            <a:off x="1192320" y="1927080"/>
            <a:ext cx="4086000" cy="244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6" name="图片 1239060" descr="74"/>
          <p:cNvPicPr/>
          <p:nvPr/>
        </p:nvPicPr>
        <p:blipFill>
          <a:blip r:embed="rId1"/>
          <a:srcRect l="0" t="14622" r="12214" b="0"/>
          <a:stretch/>
        </p:blipFill>
        <p:spPr>
          <a:xfrm>
            <a:off x="2997360" y="787320"/>
            <a:ext cx="2841480" cy="666720"/>
          </a:xfrm>
          <a:prstGeom prst="rect">
            <a:avLst/>
          </a:prstGeom>
          <a:ln w="0">
            <a:noFill/>
          </a:ln>
        </p:spPr>
      </p:pic>
      <p:pic>
        <p:nvPicPr>
          <p:cNvPr id="1897" name="图片 1239063" descr=""/>
          <p:cNvPicPr/>
          <p:nvPr/>
        </p:nvPicPr>
        <p:blipFill>
          <a:blip r:embed="rId2"/>
          <a:stretch/>
        </p:blipFill>
        <p:spPr>
          <a:xfrm>
            <a:off x="798480" y="1754280"/>
            <a:ext cx="5781600" cy="2838240"/>
          </a:xfrm>
          <a:prstGeom prst="rect">
            <a:avLst/>
          </a:prstGeom>
          <a:ln w="0">
            <a:noFill/>
          </a:ln>
        </p:spPr>
      </p:pic>
      <p:sp>
        <p:nvSpPr>
          <p:cNvPr id="1898" name="矩形 1239064"/>
          <p:cNvSpPr/>
          <p:nvPr/>
        </p:nvSpPr>
        <p:spPr>
          <a:xfrm>
            <a:off x="2182680" y="3019320"/>
            <a:ext cx="56844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9" name="矩形 1239065"/>
          <p:cNvSpPr/>
          <p:nvPr/>
        </p:nvSpPr>
        <p:spPr>
          <a:xfrm>
            <a:off x="5700600" y="3083040"/>
            <a:ext cx="56844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0" name="矩形 1239066"/>
          <p:cNvSpPr/>
          <p:nvPr/>
        </p:nvSpPr>
        <p:spPr>
          <a:xfrm>
            <a:off x="2208240" y="3654360"/>
            <a:ext cx="56844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1" name="矩形 1239067"/>
          <p:cNvSpPr/>
          <p:nvPr/>
        </p:nvSpPr>
        <p:spPr>
          <a:xfrm>
            <a:off x="5535720" y="3654360"/>
            <a:ext cx="56808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2" name="矩形 1239068"/>
          <p:cNvSpPr/>
          <p:nvPr/>
        </p:nvSpPr>
        <p:spPr>
          <a:xfrm>
            <a:off x="2322360" y="4137120"/>
            <a:ext cx="56844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3" name="矩形 1239069"/>
          <p:cNvSpPr/>
          <p:nvPr/>
        </p:nvSpPr>
        <p:spPr>
          <a:xfrm>
            <a:off x="5688000" y="4137120"/>
            <a:ext cx="61920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4" name="图片 1261570" descr=""/>
          <p:cNvPicPr/>
          <p:nvPr/>
        </p:nvPicPr>
        <p:blipFill>
          <a:blip r:embed="rId1"/>
          <a:stretch/>
        </p:blipFill>
        <p:spPr>
          <a:xfrm>
            <a:off x="723960" y="1419120"/>
            <a:ext cx="6688080" cy="1676520"/>
          </a:xfrm>
          <a:prstGeom prst="rect">
            <a:avLst/>
          </a:prstGeom>
          <a:ln w="0">
            <a:noFill/>
          </a:ln>
        </p:spPr>
      </p:pic>
      <p:sp>
        <p:nvSpPr>
          <p:cNvPr id="1905" name="矩形 1261571"/>
          <p:cNvSpPr/>
          <p:nvPr/>
        </p:nvSpPr>
        <p:spPr>
          <a:xfrm>
            <a:off x="2411280" y="2104920"/>
            <a:ext cx="79704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6" name="矩形 1261572"/>
          <p:cNvSpPr/>
          <p:nvPr/>
        </p:nvSpPr>
        <p:spPr>
          <a:xfrm>
            <a:off x="5738760" y="2092320"/>
            <a:ext cx="79704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7" name="矩形 1261573"/>
          <p:cNvSpPr/>
          <p:nvPr/>
        </p:nvSpPr>
        <p:spPr>
          <a:xfrm>
            <a:off x="2728800" y="2587680"/>
            <a:ext cx="79704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8" name="矩形 1261574"/>
          <p:cNvSpPr/>
          <p:nvPr/>
        </p:nvSpPr>
        <p:spPr>
          <a:xfrm>
            <a:off x="6119640" y="2625840"/>
            <a:ext cx="79704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图片 1260546" descr=""/>
          <p:cNvPicPr/>
          <p:nvPr/>
        </p:nvPicPr>
        <p:blipFill>
          <a:blip r:embed="rId1"/>
          <a:stretch/>
        </p:blipFill>
        <p:spPr>
          <a:xfrm>
            <a:off x="1089000" y="1049400"/>
            <a:ext cx="5724720" cy="3657600"/>
          </a:xfrm>
          <a:prstGeom prst="rect">
            <a:avLst/>
          </a:prstGeom>
          <a:ln w="0">
            <a:noFill/>
          </a:ln>
        </p:spPr>
      </p:pic>
      <p:sp>
        <p:nvSpPr>
          <p:cNvPr id="1910" name="矩形 1260547"/>
          <p:cNvSpPr/>
          <p:nvPr/>
        </p:nvSpPr>
        <p:spPr>
          <a:xfrm>
            <a:off x="1662120" y="2257560"/>
            <a:ext cx="1533600" cy="15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1" name="矩形 1260548"/>
          <p:cNvSpPr/>
          <p:nvPr/>
        </p:nvSpPr>
        <p:spPr>
          <a:xfrm>
            <a:off x="2576520" y="1635120"/>
            <a:ext cx="61920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2" name="矩形 1260549"/>
          <p:cNvSpPr/>
          <p:nvPr/>
        </p:nvSpPr>
        <p:spPr>
          <a:xfrm>
            <a:off x="4824360" y="2206800"/>
            <a:ext cx="2232000" cy="28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3" name="矩形 1260550"/>
          <p:cNvSpPr/>
          <p:nvPr/>
        </p:nvSpPr>
        <p:spPr>
          <a:xfrm>
            <a:off x="6132600" y="1660680"/>
            <a:ext cx="61920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4" name="组合 1247240"/>
          <p:cNvGrpSpPr/>
          <p:nvPr/>
        </p:nvGrpSpPr>
        <p:grpSpPr>
          <a:xfrm>
            <a:off x="1106640" y="1057320"/>
            <a:ext cx="5943600" cy="3387600"/>
            <a:chOff x="1106640" y="1057320"/>
            <a:chExt cx="5943600" cy="3387600"/>
          </a:xfrm>
        </p:grpSpPr>
        <p:pic>
          <p:nvPicPr>
            <p:cNvPr id="1915" name="图片 1247238" descr=""/>
            <p:cNvPicPr/>
            <p:nvPr/>
          </p:nvPicPr>
          <p:blipFill>
            <a:blip r:embed="rId1"/>
            <a:stretch/>
          </p:blipFill>
          <p:spPr>
            <a:xfrm>
              <a:off x="1106640" y="1057320"/>
              <a:ext cx="594360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6" name="矩形 1247239"/>
            <p:cNvSpPr/>
            <p:nvPr/>
          </p:nvSpPr>
          <p:spPr>
            <a:xfrm>
              <a:off x="1636560" y="4010040"/>
              <a:ext cx="169884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917" name="矩形 1247241"/>
          <p:cNvSpPr/>
          <p:nvPr/>
        </p:nvSpPr>
        <p:spPr>
          <a:xfrm>
            <a:off x="1484280" y="2003400"/>
            <a:ext cx="1851120" cy="15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8" name="矩形 1247242"/>
          <p:cNvSpPr/>
          <p:nvPr/>
        </p:nvSpPr>
        <p:spPr>
          <a:xfrm>
            <a:off x="2525760" y="1330200"/>
            <a:ext cx="86040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9" name="矩形 1247243"/>
          <p:cNvSpPr/>
          <p:nvPr/>
        </p:nvSpPr>
        <p:spPr>
          <a:xfrm>
            <a:off x="4938840" y="1800360"/>
            <a:ext cx="215568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0" name="矩形 1247244"/>
          <p:cNvSpPr/>
          <p:nvPr/>
        </p:nvSpPr>
        <p:spPr>
          <a:xfrm>
            <a:off x="5904000" y="1330200"/>
            <a:ext cx="86040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1" name="组合 1246217"/>
          <p:cNvGrpSpPr/>
          <p:nvPr/>
        </p:nvGrpSpPr>
        <p:grpSpPr>
          <a:xfrm>
            <a:off x="1062000" y="847800"/>
            <a:ext cx="7021440" cy="3736800"/>
            <a:chOff x="1062000" y="847800"/>
            <a:chExt cx="7021440" cy="3736800"/>
          </a:xfrm>
        </p:grpSpPr>
        <p:pic>
          <p:nvPicPr>
            <p:cNvPr id="1922" name="图片 1246215" descr=""/>
            <p:cNvPicPr/>
            <p:nvPr/>
          </p:nvPicPr>
          <p:blipFill>
            <a:blip r:embed="rId1"/>
            <a:stretch/>
          </p:blipFill>
          <p:spPr>
            <a:xfrm>
              <a:off x="1062000" y="1127160"/>
              <a:ext cx="702144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3" name="矩形 1246216"/>
            <p:cNvSpPr/>
            <p:nvPr/>
          </p:nvSpPr>
          <p:spPr>
            <a:xfrm>
              <a:off x="4253040" y="847800"/>
              <a:ext cx="260028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924" name="矩形 1246218"/>
          <p:cNvSpPr/>
          <p:nvPr/>
        </p:nvSpPr>
        <p:spPr>
          <a:xfrm>
            <a:off x="1332000" y="3451320"/>
            <a:ext cx="4657680" cy="12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5" name="图片 1245191" descr=""/>
          <p:cNvPicPr/>
          <p:nvPr/>
        </p:nvPicPr>
        <p:blipFill>
          <a:blip r:embed="rId1"/>
          <a:stretch/>
        </p:blipFill>
        <p:spPr>
          <a:xfrm>
            <a:off x="590400" y="752400"/>
            <a:ext cx="4146840" cy="4726080"/>
          </a:xfrm>
          <a:prstGeom prst="rect">
            <a:avLst/>
          </a:prstGeom>
          <a:ln w="0">
            <a:noFill/>
          </a:ln>
        </p:spPr>
      </p:pic>
      <p:pic>
        <p:nvPicPr>
          <p:cNvPr id="1926" name="图片 1245192" descr=""/>
          <p:cNvPicPr/>
          <p:nvPr/>
        </p:nvPicPr>
        <p:blipFill>
          <a:blip r:embed="rId2"/>
          <a:stretch/>
        </p:blipFill>
        <p:spPr>
          <a:xfrm>
            <a:off x="5027760" y="1716120"/>
            <a:ext cx="3197160" cy="22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图片 377064" descr="71"/>
          <p:cNvPicPr/>
          <p:nvPr/>
        </p:nvPicPr>
        <p:blipFill>
          <a:blip r:embed="rId1"/>
          <a:srcRect l="0" t="11993" r="14416" b="0"/>
          <a:stretch/>
        </p:blipFill>
        <p:spPr>
          <a:xfrm>
            <a:off x="2975040" y="755640"/>
            <a:ext cx="2770200" cy="687240"/>
          </a:xfrm>
          <a:prstGeom prst="rect">
            <a:avLst/>
          </a:prstGeom>
          <a:ln w="0">
            <a:noFill/>
          </a:ln>
        </p:spPr>
      </p:pic>
      <p:pic>
        <p:nvPicPr>
          <p:cNvPr id="1859" name="图片 377065" descr=""/>
          <p:cNvPicPr/>
          <p:nvPr/>
        </p:nvPicPr>
        <p:blipFill>
          <a:blip r:embed="rId2"/>
          <a:srcRect l="0" t="1922" r="0" b="0"/>
          <a:stretch/>
        </p:blipFill>
        <p:spPr>
          <a:xfrm>
            <a:off x="1087560" y="1644480"/>
            <a:ext cx="6675480" cy="38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7" name="图片 1243139" descr=""/>
          <p:cNvPicPr/>
          <p:nvPr/>
        </p:nvPicPr>
        <p:blipFill>
          <a:blip r:embed="rId1"/>
          <a:stretch/>
        </p:blipFill>
        <p:spPr>
          <a:xfrm>
            <a:off x="909720" y="771480"/>
            <a:ext cx="7065720" cy="4400640"/>
          </a:xfrm>
          <a:prstGeom prst="rect">
            <a:avLst/>
          </a:prstGeom>
          <a:ln w="0">
            <a:noFill/>
          </a:ln>
        </p:spPr>
      </p:pic>
      <p:sp>
        <p:nvSpPr>
          <p:cNvPr id="1928" name="矩形 1243140"/>
          <p:cNvSpPr/>
          <p:nvPr/>
        </p:nvSpPr>
        <p:spPr>
          <a:xfrm>
            <a:off x="1128600" y="3895560"/>
            <a:ext cx="4657680" cy="12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9" name="图片 1257480" descr="75"/>
          <p:cNvPicPr/>
          <p:nvPr/>
        </p:nvPicPr>
        <p:blipFill>
          <a:blip r:embed="rId1"/>
          <a:srcRect l="0" t="0" r="11958" b="0"/>
          <a:stretch/>
        </p:blipFill>
        <p:spPr>
          <a:xfrm>
            <a:off x="3174840" y="820800"/>
            <a:ext cx="2829240" cy="780840"/>
          </a:xfrm>
          <a:prstGeom prst="rect">
            <a:avLst/>
          </a:prstGeom>
          <a:ln w="0">
            <a:noFill/>
          </a:ln>
        </p:spPr>
      </p:pic>
      <p:sp>
        <p:nvSpPr>
          <p:cNvPr id="1930" name="Rectangle 7"/>
          <p:cNvSpPr/>
          <p:nvPr/>
        </p:nvSpPr>
        <p:spPr>
          <a:xfrm>
            <a:off x="236520" y="2162160"/>
            <a:ext cx="8650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节课你印象最深刻的是什么？通过课堂活动，你有什么体会和收获？和老师、同学交流一下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931" name="Picture 10" descr="C:\Documents and Settings\Administrator\桌面\我上学了副本.jpg"/>
          <p:cNvPicPr/>
          <p:nvPr/>
        </p:nvPicPr>
        <p:blipFill>
          <a:blip r:embed="rId2"/>
          <a:srcRect l="0" t="20452" r="0" b="6364"/>
          <a:stretch/>
        </p:blipFill>
        <p:spPr>
          <a:xfrm>
            <a:off x="5934240" y="3983040"/>
            <a:ext cx="277020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0" name="图片 1240069" descr=""/>
          <p:cNvPicPr/>
          <p:nvPr/>
        </p:nvPicPr>
        <p:blipFill>
          <a:blip r:embed="rId1"/>
          <a:stretch/>
        </p:blipFill>
        <p:spPr>
          <a:xfrm>
            <a:off x="793800" y="990720"/>
            <a:ext cx="3752640" cy="1438200"/>
          </a:xfrm>
          <a:prstGeom prst="rect">
            <a:avLst/>
          </a:prstGeom>
          <a:ln w="0">
            <a:noFill/>
          </a:ln>
        </p:spPr>
      </p:pic>
      <p:pic>
        <p:nvPicPr>
          <p:cNvPr id="1861" name="图片 1240070" descr=""/>
          <p:cNvPicPr/>
          <p:nvPr/>
        </p:nvPicPr>
        <p:blipFill>
          <a:blip r:embed="rId2"/>
          <a:stretch/>
        </p:blipFill>
        <p:spPr>
          <a:xfrm>
            <a:off x="777960" y="2465280"/>
            <a:ext cx="601020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2" name="图片 1255426" descr=""/>
          <p:cNvPicPr/>
          <p:nvPr/>
        </p:nvPicPr>
        <p:blipFill>
          <a:blip r:embed="rId1"/>
          <a:stretch/>
        </p:blipFill>
        <p:spPr>
          <a:xfrm>
            <a:off x="595440" y="1440000"/>
            <a:ext cx="6922800" cy="1485720"/>
          </a:xfrm>
          <a:prstGeom prst="rect">
            <a:avLst/>
          </a:prstGeom>
          <a:ln w="0">
            <a:noFill/>
          </a:ln>
        </p:spPr>
      </p:pic>
      <p:pic>
        <p:nvPicPr>
          <p:cNvPr id="1863" name="图片 1255427" descr=""/>
          <p:cNvPicPr/>
          <p:nvPr/>
        </p:nvPicPr>
        <p:blipFill>
          <a:blip r:embed="rId2"/>
          <a:stretch/>
        </p:blipFill>
        <p:spPr>
          <a:xfrm>
            <a:off x="747720" y="3164040"/>
            <a:ext cx="216216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4" name="图片 1254403" descr=""/>
          <p:cNvPicPr/>
          <p:nvPr/>
        </p:nvPicPr>
        <p:blipFill>
          <a:blip r:embed="rId1"/>
          <a:stretch/>
        </p:blipFill>
        <p:spPr>
          <a:xfrm>
            <a:off x="1046160" y="1292400"/>
            <a:ext cx="678024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5" name="图片 1253379" descr=""/>
          <p:cNvPicPr/>
          <p:nvPr/>
        </p:nvPicPr>
        <p:blipFill>
          <a:blip r:embed="rId1"/>
          <a:stretch/>
        </p:blipFill>
        <p:spPr>
          <a:xfrm>
            <a:off x="1266840" y="1662120"/>
            <a:ext cx="1860480" cy="2112840"/>
          </a:xfrm>
          <a:prstGeom prst="rect">
            <a:avLst/>
          </a:prstGeom>
          <a:ln w="0">
            <a:noFill/>
          </a:ln>
        </p:spPr>
      </p:pic>
      <p:pic>
        <p:nvPicPr>
          <p:cNvPr id="1866" name="图片 1253380" descr=""/>
          <p:cNvPicPr/>
          <p:nvPr/>
        </p:nvPicPr>
        <p:blipFill>
          <a:blip r:embed="rId2"/>
          <a:stretch/>
        </p:blipFill>
        <p:spPr>
          <a:xfrm>
            <a:off x="1087560" y="1106640"/>
            <a:ext cx="1380960" cy="47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7" name="图片 1256458" descr=""/>
          <p:cNvPicPr/>
          <p:nvPr/>
        </p:nvPicPr>
        <p:blipFill>
          <a:blip r:embed="rId1"/>
          <a:stretch/>
        </p:blipFill>
        <p:spPr>
          <a:xfrm>
            <a:off x="76320" y="1822320"/>
            <a:ext cx="8993160" cy="2067120"/>
          </a:xfrm>
          <a:prstGeom prst="rect">
            <a:avLst/>
          </a:prstGeom>
          <a:ln w="0">
            <a:noFill/>
          </a:ln>
        </p:spPr>
      </p:pic>
      <p:sp>
        <p:nvSpPr>
          <p:cNvPr id="1868" name="矩形 1256459"/>
          <p:cNvSpPr/>
          <p:nvPr/>
        </p:nvSpPr>
        <p:spPr>
          <a:xfrm>
            <a:off x="2373480" y="2498760"/>
            <a:ext cx="37764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9" name="矩形 1256460"/>
          <p:cNvSpPr/>
          <p:nvPr/>
        </p:nvSpPr>
        <p:spPr>
          <a:xfrm>
            <a:off x="3160800" y="2498760"/>
            <a:ext cx="2127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0" name="矩形 1256461"/>
          <p:cNvSpPr/>
          <p:nvPr/>
        </p:nvSpPr>
        <p:spPr>
          <a:xfrm>
            <a:off x="3554280" y="2816280"/>
            <a:ext cx="35244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1" name="矩形 1256462"/>
          <p:cNvSpPr/>
          <p:nvPr/>
        </p:nvSpPr>
        <p:spPr>
          <a:xfrm>
            <a:off x="6411960" y="2816280"/>
            <a:ext cx="55548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2" name="矩形 1256463"/>
          <p:cNvSpPr/>
          <p:nvPr/>
        </p:nvSpPr>
        <p:spPr>
          <a:xfrm>
            <a:off x="5281560" y="3146400"/>
            <a:ext cx="3906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3" name="矩形 1256464"/>
          <p:cNvSpPr/>
          <p:nvPr/>
        </p:nvSpPr>
        <p:spPr>
          <a:xfrm>
            <a:off x="6284880" y="3146400"/>
            <a:ext cx="55548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4" name="矩形 1256465"/>
          <p:cNvSpPr/>
          <p:nvPr/>
        </p:nvSpPr>
        <p:spPr>
          <a:xfrm>
            <a:off x="1560600" y="3565440"/>
            <a:ext cx="55548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5" name="图片 1259521" descr=""/>
          <p:cNvPicPr/>
          <p:nvPr/>
        </p:nvPicPr>
        <p:blipFill>
          <a:blip r:embed="rId1"/>
          <a:stretch/>
        </p:blipFill>
        <p:spPr>
          <a:xfrm>
            <a:off x="876240" y="1703520"/>
            <a:ext cx="7392960" cy="2305080"/>
          </a:xfrm>
          <a:prstGeom prst="rect">
            <a:avLst/>
          </a:prstGeom>
          <a:ln w="0">
            <a:noFill/>
          </a:ln>
        </p:spPr>
      </p:pic>
      <p:sp>
        <p:nvSpPr>
          <p:cNvPr id="1876" name="矩形 1259522"/>
          <p:cNvSpPr/>
          <p:nvPr/>
        </p:nvSpPr>
        <p:spPr>
          <a:xfrm>
            <a:off x="1065240" y="2562120"/>
            <a:ext cx="1266840" cy="181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7" name="矩形 1259523"/>
          <p:cNvSpPr/>
          <p:nvPr/>
        </p:nvSpPr>
        <p:spPr>
          <a:xfrm>
            <a:off x="1776240" y="2079720"/>
            <a:ext cx="51768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8" name="矩形 1259524"/>
          <p:cNvSpPr/>
          <p:nvPr/>
        </p:nvSpPr>
        <p:spPr>
          <a:xfrm>
            <a:off x="2881440" y="2511360"/>
            <a:ext cx="1266840" cy="181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9" name="矩形 1259525"/>
          <p:cNvSpPr/>
          <p:nvPr/>
        </p:nvSpPr>
        <p:spPr>
          <a:xfrm>
            <a:off x="3706920" y="2104920"/>
            <a:ext cx="51732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0" name="矩形 1259526"/>
          <p:cNvSpPr/>
          <p:nvPr/>
        </p:nvSpPr>
        <p:spPr>
          <a:xfrm>
            <a:off x="4964040" y="2486160"/>
            <a:ext cx="1266840" cy="18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1" name="矩形 1259527"/>
          <p:cNvSpPr/>
          <p:nvPr/>
        </p:nvSpPr>
        <p:spPr>
          <a:xfrm>
            <a:off x="5751360" y="2066760"/>
            <a:ext cx="51768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2" name="矩形 1259528"/>
          <p:cNvSpPr/>
          <p:nvPr/>
        </p:nvSpPr>
        <p:spPr>
          <a:xfrm>
            <a:off x="6958080" y="2435400"/>
            <a:ext cx="1266840" cy="18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3" name="矩形 1259529"/>
          <p:cNvSpPr/>
          <p:nvPr/>
        </p:nvSpPr>
        <p:spPr>
          <a:xfrm>
            <a:off x="7885080" y="2079720"/>
            <a:ext cx="51768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4" name="图片 1230866" descr="72"/>
          <p:cNvPicPr/>
          <p:nvPr/>
        </p:nvPicPr>
        <p:blipFill>
          <a:blip r:embed="rId1"/>
          <a:srcRect l="0" t="13423" r="11580" b="0"/>
          <a:stretch/>
        </p:blipFill>
        <p:spPr>
          <a:xfrm>
            <a:off x="2997360" y="766800"/>
            <a:ext cx="2862000" cy="676080"/>
          </a:xfrm>
          <a:prstGeom prst="rect">
            <a:avLst/>
          </a:prstGeom>
          <a:ln w="0">
            <a:noFill/>
          </a:ln>
        </p:spPr>
      </p:pic>
      <p:pic>
        <p:nvPicPr>
          <p:cNvPr id="1885" name="图片 1230868" descr=""/>
          <p:cNvPicPr/>
          <p:nvPr/>
        </p:nvPicPr>
        <p:blipFill>
          <a:blip r:embed="rId2"/>
          <a:stretch/>
        </p:blipFill>
        <p:spPr>
          <a:xfrm>
            <a:off x="447840" y="1703520"/>
            <a:ext cx="8227800" cy="1990440"/>
          </a:xfrm>
          <a:prstGeom prst="rect">
            <a:avLst/>
          </a:prstGeom>
          <a:ln w="0">
            <a:noFill/>
          </a:ln>
        </p:spPr>
      </p:pic>
      <p:pic>
        <p:nvPicPr>
          <p:cNvPr id="1886" name="图片 1230869" descr=""/>
          <p:cNvPicPr/>
          <p:nvPr/>
        </p:nvPicPr>
        <p:blipFill>
          <a:blip r:embed="rId3"/>
          <a:stretch/>
        </p:blipFill>
        <p:spPr>
          <a:xfrm>
            <a:off x="404640" y="3817800"/>
            <a:ext cx="265752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0:27:36Z</dcterms:created>
  <dc:creator/>
  <dc:description/>
  <dc:language>en-US</dc:language>
  <cp:lastModifiedBy>万润仪器贸易公司</cp:lastModifiedBy>
  <dcterms:modified xsi:type="dcterms:W3CDTF">2020-08-24T00:27:39Z</dcterms:modified>
  <cp:revision>13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